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49F-EC29-4253-8989-42C8533F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F29-E32E-4B4B-ADD3-938DC93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DAE-0E8F-4B46-9BDD-D9A1C0FD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3BA-3784-4CC3-9F43-8276DC4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149-0F7D-46E9-BCB7-4455F215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AD87-0435-43B9-8C5B-43D9C82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288C-25D4-4240-83DD-349FD82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9D5-989A-4A5E-B80E-D6B3BDE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F6F-C797-4915-B827-49228659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F1A-57B3-4AB7-8DF8-A291E156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D50A-2B5B-4F3C-BC2C-5B354AD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BC3-B32C-4C29-8518-CA3F13C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521-21CD-4520-986C-0F8F53D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E94B-78B1-477F-AEE3-3D1B1E3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502-2352-436C-BC6A-DCFF83E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E02-96E9-4936-988F-C7F45180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87A-90B2-4FCD-A68D-D65C55AE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F56-33B0-4812-ABB2-3E1D861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308-859A-45E7-9475-D5318671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B21-137F-4EBB-8679-36064BB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BD3-9CFB-470E-80B3-0343C0B3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0EB-A673-4DD5-A3F1-604A7E1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100-1CDA-46C4-9FD0-736D72A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B09-B35F-4DC7-ABF1-965A300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CC0-5DD1-4B46-9D07-A97FB8F34D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CF74-15AB-4310-9E94-D022ABB8B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260280"/>
            <a:ext cx="604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Дорогие мам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наше счастье заключается в счастье наших дет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-4619520" y="76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5880"/>
            <a:ext cx="7777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от того, каких мы растим дочерей, зависит наше настоящее и наше будущее. Наши дочери воспитываются каждой сказанной фразой, каждым сделанным делом. Ежедневно каждая мать своим примером, своим отношением к людям, к труду, к дому воспитывает свою дочь.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ерпения вам и мудрости!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Постарайтесь мобилизовать все свои способности, чтобы достичь главного — взаимопонимания с дочерью. Помните мудрую русскую пословицу. «Нет такого дружка, как родная матушка». Пусть в трудные минуты вам поможет памятка «Советы мам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5638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7280" y="1344960"/>
            <a:ext cx="6913800" cy="54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бращайтесь с девочками без нравоучений, без упре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говорите, особенно в присутствии дочери, соседям, друзьям, гостям, приятелям, как хороша ваша дочь, не перечисляйте её достоинств. И, наоборот, «не выплескивайте» молву о недостатках вашей дочери, не судите с соседкой о ее «поведе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учение — это многократное повторение. При этом, повторяя, напоминая, чаще подбадривайте, а не упрекай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мейте помолчать. Иногда молчание — поистине золото, особенно когда речь идет о воспитании девичьей стыдливости, целомудрия, чистоты. Здесь не должно быть места ни грубоватым шуткам, ни насмеш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кричит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рик не только показатель вашего бессилия, слабости, но и демонстрация несдержанности, запальчивости. Ещё хуже «пилить изо дня в день», «распекать». Все это создаёт такую атмосферу, которая может перейти в отчуждё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отвечайте грубостью на грубость, а покажите превосходство вежливости в общ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читайтесь с мнением дочери, советуйтесь с нею. Не бойтесь, когда надо сказать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ин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взрослеющей дочерью говорите, как со взрослой женщ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59280" y="333360"/>
            <a:ext cx="51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84360" cy="1595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132000" y="836640"/>
            <a:ext cx="48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веты мама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2:56:45Z</dcterms:created>
  <dc:creator>.</dc:creator>
  <dc:description/>
  <dc:language>en-US</dc:language>
  <cp:lastModifiedBy>SamLab.ws</cp:lastModifiedBy>
  <dcterms:modified xsi:type="dcterms:W3CDTF">2010-07-08T17:58:12Z</dcterms:modified>
  <cp:revision>7</cp:revision>
  <dc:subject/>
  <dc:title>Слайд 1</dc:title>
</cp:coreProperties>
</file>