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3CC-9025-49F0-A03D-16559AB2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BC1E-58C6-4E12-8C88-A185D45D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8FB-1A69-453E-93E8-A64ED767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28D-6DAC-4EDB-8508-5A1F891F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B70-4BC3-47DD-8640-0AC8F746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E24-0529-4427-A47C-5A9B625A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97C-2AFB-4202-9D9E-641EE911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479-7AFE-446E-9327-D3F9AFF9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5A2-931D-4D20-BF8B-B7DEC59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5CAF-8015-409B-9FEA-584852A7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A92-4B65-4013-AC17-B3DE64A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0F8-C647-497C-82FD-C3E9F34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503B-A6C0-432D-9367-499F4CCD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2060640"/>
            <a:ext cx="9144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предотвратить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пасность на дороге 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5432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Ходите только по тротуарам или пешеходным дорожкам, придерживаясь правой стороне, а где их нет - по обочине или велосипедной дорожке, если это не затруднит движение велосипеди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там, где движение регулируется, выходите на проезжую часть для перехода улицы только при зелёном сигнале светофора  или разрешающем  жесте регулировщ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 перегоне проезжую часть пересекать можно только в том случае, если в зоне видимости отсутствуют пешеходные переходы или перекрёстки и только под прямым углом на тех участках, где дорога хорошо просматривается в об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ешеходам запрещается выходить на проезжую час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18120" y="-720"/>
            <a:ext cx="34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нь заметней в темноте!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326880"/>
            <a:ext cx="85690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За городом: что должны знать учащие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льская обстановка таит в себе особые 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городом не так много дорожных зна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личия между пешеходной зоной и проезжей частью не так замет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ила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чью на дороге меньше света, иногда его вообще нет. Поэтому желательно носить светлую одежду и иметь светоотражающие элементы на одежде и портф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удьте особенно внимательны у въездов и выездов промышленных предприятий: поблизости могут совершать маневры грузов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обое по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шеходы и водители, живущие за городом, не привыкли к сильному движению, и поэтому они менее вниматель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шеходы здесь часто ходят по проезжей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Рекомендации дл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удьте особенно внимательны во время передвижения за горо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огда не играйте на проезжей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мните об опасностях, которые могут возникнуть на дороге из-за животных (непредсказуемость, импульсивность) и транспортных средств (тракторы, комбайны, грузовой автотранспорт - закрывает обзор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Если вы идете пеш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На изгибе дороги и на возвышенностях видимость хуже, так что не переходите дорогу в этих мес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втомагистрали часто проходят через деревни, и водители здесь часто не придерживаются скоростного лимита в 60 км/час. Ищите наиболее безопасные места для перех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отсутствии тротуара идите по обочине дороги, чтобы хорошо видеть самому и чтобы вас видели водители машин. Если по обочине нельзя пройти, идите по краю проезжей части навстречу движения трансп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ходить из-за припаркованной машины нельзя, нужно отойти от автомобиля и в том месте, где дорога хорошо просматривается, убедившись, что поблизости нет машин, перейти проезжую ча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35880"/>
            <a:ext cx="8675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шеходам не следует идти по самому краю тротуара, прилегающего к проезжей части дороги. Оступившись, пешеход может неожиданно оказаться на проезжей части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еть пешехода могут и транспортные средства, особенно с прицепом, движущиеся рядом с тротуаром, так как отклонение прицепа при маневрировании может достигать 1,5 м. При отсутствии в зоне видимости обозначенных пешеходных переходов пешеход должен перейти проезжую часть дороги под прямым углом, что обеспечит наименьший период времени нахождения пешехода на проезжей части дороги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льзя принимать решение о пересечении проезжей части на закруглениях дороги с малым радиусом, а также пересекать ее в местах, с ограниченной обзорностью из-за транспорт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 тем как выйти на проезжую часть, пешеход должен убедиться в отсутствии транспортных средств или правильно оценить расстояние до приближающихся транспортных средств, и их скорость. Безопасным на загородной дороге является удаление транспортных средств на расстоянии 150-200 метров, в населенном пункте 100-150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местах, где отсутствуют тротуары или обочины пешеходы должны двигаться по проезжей ча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встречу потоку транспортных средст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чтобы предвидеть приближающийся автомобиль. В таких случаях пешеход должен идти как можно ближе к краю проезжей части, чтобы не препятствовать движению транспортных средст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93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ации по соблюдению правил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рогах в связи с изменением погод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тем, что при ухудшении погодных условий (снегопад, гололед, дождь, туман) видимость на дорогах ухудшается, а тормозной путь автомобиля увеличивается, пешеходам необходимо быть предельно внимательными.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кать проезжую часть по пешеходным переходам (подземным и надземным), а при их отсутствии - на перекрестках по линии тротуаров или обочин, при условии отсутствия транспорт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еребегать улицу, а переходить её шагом под прямым уг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успев перейти улицу, не метаться, а остановиться и дать возможность водителю тебя объе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внимательным и осторожным в ненастную погоду, особенно при обледенелом дорожном покрытии, когда водителю не всегда удается рассчитать тормозной путь транспортного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станавливаться в непосредственной близости от проходящего автомобиля, так как выступающие детали автомобиля могут зацепиться за  одежду и потащить себя за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ыхода из общественного транспорта переходить улицу только по пешеходному переходу, а если его нет, то после отправления автобуса, когда дорога будет хорошо просматриваться в обе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риближении автомобилей (пожарных, милицейских, медицинских) спецназначения с включенным звуковым сигналом, пешеходы должны воздержаться от перехода проезжей части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080"/>
            <a:ext cx="89647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лосипе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олжно осуществляться по велосипедной дорожке, а при ее отсутствии 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о обочине, тротуару или пешеходной дорожке, не создавая препятствия для безопасного движения пешеходов. При отсутствии указанных элементов дороги или невозможности движения по ним допускается движение велосипедистов по проезжей части дороги в один ряд не далее 1 метра от ее правого края. При эт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выезд далее 1 метра от правого края проезжей части дороги допускается лишь для объезда препятствия и в разрешенных случаях для поворота налево или разворо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колонны велосипедистов при движении по проезжей части дороги должны быть разделены на группы не более чем по 10 велосипедистов. Расстояние между группами должно составлять не менее 100 мет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 при наличии на проезжей части дороги линии горизонтальной дорожной разметки 1.2 (сплошная белая линия), обозначающей ее край, эта линия должна располагаться слева от велосипеди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ff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 перекрестков на нерегулируемом пересечении велосипедной дорожки с дорогой велосипедист обязан уступить дорогу транспортным средствам, движущимся по этой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ff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ересечении проезжей части дороги по пешеходному переходу велосипедист должен вести велосипед рядом с собой и руководствоваться требованиями, предусмотренными правилами для движения пешех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ff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осипед должен иметь исправные тормозную систему, рулевое управление и звуковой сигнал, быть оборудован зеркалом заднего вида, спереди световозвращателем белого цвета, сзади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ветовозвращателем (световозвращателями) красного цвета, а с каждой боковой стороны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ветовозвращателями оранжевого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ff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управлении велосипедом велосипедисту рекомендуется надевать велошлем, налокотники и наколен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ff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движении в тёмное время суток велосипедисту рекомендуется надевать жилет повышенной видимости со вставками из световозвращающего матери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68616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педе (скутере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вигаться по проезжей части разрешено с 16 лет. Движение на мопеде должно осуществляться по обочине или проезжей части дороги не далее 1 метра от правого края проезжей части. При этом выезд далее 1 метра от ее правого края допускается лишь для объезда препятствия и в разрешенных случаях для поворота налево или разво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вижении на мопеде необходимо быть в застегнутом мотошлеме и не перевозить пассажиров без застегнутого мотош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движении по дороге 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ное время су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(или) при ее недостаточной видим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лосипеде или мопе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ны быть включены: спереди - фара (фонарь), излучающая белый свет, сзади - фонарь, излучающий красный с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906120"/>
            <a:ext cx="820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елосипедисту и водителю мопеда запрещ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спользовать технически неисправные велосипеды и мопеды, а также оборудованные с нарушением требований технических нормативных правовых а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вигаться, не держась за руль и (или) не держа ноги на педалях (подножк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оворачивать налево или разворачиваться на дороге, имеющей трамвайный путь, и на дороге, имеющей более одной полосы для движения в данном направл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двигаться по дороге в условиях снегопада и (или) гололеди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еревозить пассажиров, за исключением перевозки детей в возрасте до семи лет на дополнительном специально оборудованном сиден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перевозить грузы, которые выступают более чем на 0,5 метра по длине или ширине за габариты транспортного средства, а также грузы, мешающие управлению этим транспортным сред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5:09:13Z</dcterms:created>
  <dc:creator>SamLab.ws</dc:creator>
  <dc:description/>
  <dc:language>en-US</dc:language>
  <cp:lastModifiedBy>SamLab.ws</cp:lastModifiedBy>
  <dcterms:modified xsi:type="dcterms:W3CDTF">2010-06-28T05:06:29Z</dcterms:modified>
  <cp:revision>9</cp:revision>
  <dc:subject/>
  <dc:title>Слайд 1</dc:title>
</cp:coreProperties>
</file>